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582A-6C92-4A7C-B918-E052D6D2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307C-8487-4730-A608-8FD3B52AB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117E-9F62-426C-A64C-273C2F10E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C1D9-0063-4532-BF29-0D22F62E6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40A-A6C0-49E0-94F5-38E3CCFF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2B7-EEC8-450E-B42D-900A9ADC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915-3525-48BF-837F-A3938219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81803-22FE-4417-8823-57BF7121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4DA7C-1CFF-4B3D-9314-2C701640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0B073-3BDD-44CD-8648-D022202C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C234A-C21E-49B9-BE38-B6F601A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AF35E-CBB8-40FD-869D-79C00CE4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9F48C-3DD6-4C33-9182-C13B26A4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6D275-0665-4351-8E8E-83AF035F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B9B73-FF71-46AF-9AE9-60152A2E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CDF71-0C8D-490E-8A68-EA43B517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597C8-DC65-48D2-AAF8-A372CAF9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845-3B7F-4687-8CB4-8BEE81FE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DCC75-7440-47AE-AD11-B3DA331F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7837D-825C-488F-BC16-B7F2CF19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D541A-2955-4B1F-A410-E0DA5068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8CDDA-81BC-463D-BBDB-CD5BC40A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21F03-2D29-480A-AF50-B209446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B1DC9-2D91-4BB9-932D-0A6DDACE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2C27F-8F80-4CBE-9D8E-DB9ACD7A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0705F-82F4-495D-A827-A44B45A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1190E-EB16-4C3D-B693-FC0E4311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CD200-0C02-4A5E-8D6F-570B407D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E74-C62A-418F-813B-31D1D5E1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34F6A-4430-4C27-8983-6884DFB6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6E7FD-259D-4E73-83EF-A4763F2C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780FF-E545-4F44-80A7-7DD5334A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C7A94-9F74-4F21-80D0-AF79E88F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6FC56-6B75-4C4C-9C2E-1DBF7F92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F07F3-04C6-48AF-B8F0-5DF72C47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EAA2B-7096-4901-8A96-C26FDC10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EF4E3-5ED6-4DB3-87FD-DD4786B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215D5-852F-43DE-BBC3-B1021719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DDAC2-D6D9-4F5C-A9B6-3F3F6D15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9981-5EA1-4B39-B10D-56210BB3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E1931-AA33-46AF-9E55-8F3F09D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D7D40-D87B-44C7-A237-538CAA9C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82B0B-A475-45F5-AEA5-F49C31D4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F1A9D-3E0A-4698-A00B-7D4D238F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2B9A2-32A0-40EA-A8AB-7E8483B3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05A29-D0C4-4B1A-8CE9-4A56DED6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438C3-4C5B-4F2A-8A3E-A3D88868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481AB-C71B-4A55-B43E-CF868F88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47662-CA3F-4345-B58E-76E0CF7E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9B6ED-7B9F-40CD-A7F0-E21BE29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0339-CFE6-481A-8B25-23E69A53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C83A4-25AE-40C1-8AC7-C3C33A0A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5C7AD-E097-4634-8CEC-07E0499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52965-79E1-4CAC-84AF-EC6D99AC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2075C-1DEE-40E8-B083-A9818C7C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A58C3-8DB6-47D1-A71D-EF48AF75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C22EF-5BD2-47AB-BDCF-89013924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FCDFF-0941-4F57-A332-4EFF7A90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EC6A3-1053-4E2E-B7E3-6EBB5D8D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6C7F2-4844-468D-96CA-27F2ADD8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7FDCA-B79C-4E9B-BF89-FD0D4AEF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5BA9-DF51-4DEE-AB9C-9B180A3B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C87C2-983D-4A3F-A4B2-C0FE3DCD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9B108-935A-4500-B074-81D8D91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343D4-2531-445D-81A3-BF1E971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C484E-13AE-4731-B815-B4D3F422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2D511-2641-4A23-9DBD-BE476500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EB5CC-53CC-4299-B170-11EEF70F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4B03E-91CA-495C-9716-F66AA05F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2BAF-257A-4B0A-A2A7-44E06ACA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07B7-090B-4CB6-BBA9-85443430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F5F8-BF01-47CA-AB1F-89F050ED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D8B8-6DFA-47E8-B56B-30CCF89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6D3-69DE-4C87-9C02-460577C6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10A5-EFC3-4DC5-A9EE-E47624D7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52EC-96C6-4423-AA53-DDD3F407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305C-E26F-4537-B055-4DA77BB4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1D63-A9A8-40DC-B259-B6B47A0E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CBE8-11DE-4ACA-B6D0-1D93DBC7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F0BB-D637-41A5-A10C-108EC49B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05CD-20C2-4BBD-94BE-0E6E502D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6BE8-B7F7-4A7F-9696-AF1D0BDB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DBF2-17F1-4A72-8177-337A0169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1866-3712-403C-9007-46043FC0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F2F-C49B-42ED-A582-81BB6A31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F775A-E2EA-46D8-AF58-4FD50E63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9BD3-053E-4670-9BAF-F5574E43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B620-33FF-42B0-BC04-EB43D0C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2C2CB-A7B8-4057-9767-4E05119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14EE-70B3-4D4F-B905-AA0BB288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6606-1F49-4CB7-A586-22EA94BD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C4EB-6E96-417A-8FDB-645D868A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F073C-3433-44ED-A0D1-98EE95AB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697E0-FA3B-4512-BF06-75423FA8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126AF-5B40-4815-BFF3-B5A36BF0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415-C2EE-46AA-9B5C-D2BE9045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7045-4FE0-4ADB-A30F-4DB8D8AE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9F43-91E0-411F-896C-7DAA7BAD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B607-5041-4774-B050-1A2E872D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13C2-7A62-401F-8C5F-EA728065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68E7-2B5E-4E2D-BCDC-CC8BD0FF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6A5E-88FB-4122-B873-B1E7D481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101E-074B-45D2-846B-7A9E2E10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21DA-B14B-456F-B091-3A6CB644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3556-17AB-4C47-A03F-145C066C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D9B8B-BC72-4803-B210-96989A38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3F6-DEC7-4DE5-A4D4-13ECB192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3AC9-90A7-4A5D-9793-A337FC7D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60E7D-1B9F-4A71-B94A-A993BFB3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0B89-2D12-41D5-A4D0-0C0596FE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DB20D-EEFC-4308-A65F-622F6D61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E7F3B-05A6-4EE0-9D7B-4A380E3C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B68C-BD85-40E4-98D9-BB95894E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660F-1E7A-4851-AE68-35ADDCC6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CDB7E-F8B8-4A83-AFE1-EC927BE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406D1-79F2-44EB-902D-E025D219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D57F7-8AEB-46BC-B3E2-FAB139B2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ED9-7226-4B0A-A48E-8454E87D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6865C-2C6C-4700-AD95-D993D9B6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AD40-F57E-46B3-AB8E-E050BF36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198E2-2BAF-4935-8525-756C3E0F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61FF4-2537-4525-A9A7-27A572CE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8B0D9-2BD8-4FEA-BB4E-FF586F5F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23633-48B1-453F-82C9-8293BE37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275AC-F816-4F1B-8A15-25321D7D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DA1C-D0CA-4538-822B-A51CB5ED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21740-2E52-40FA-8C64-467CE65E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9186-09F3-4C37-A109-34051BE4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311-58D8-4496-A776-36C72828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C0A79-FE0E-40C8-8477-819F9343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A7424-83E6-43F0-904C-2707359E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DF42-FAAB-48A0-963F-6C49B479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D38C9-ADDC-46F9-A11F-68D64EA3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5291C-1EC2-4B9F-82E2-2EBE137C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9398B-EC2F-4BEA-812B-BDF1F4CB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F2668-D544-4AB1-BF3C-1E51D2FD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6720C-D361-4462-B155-4AA95DE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C517C-B58D-48C5-A7B5-9EB9693C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2A45D-71B5-4B06-B3C9-AA7F290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D04-246A-48AA-A206-F6AAC12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7FC7E-9D12-47AC-B060-81B536D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DACD7-BAA6-41EE-8400-E6B18B7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819AC-19BB-4337-A569-552C220A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99616-8DF0-4A3C-B55B-8C70CA91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C3A71-294F-4440-990D-2F1F478F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CDC1D-83CC-40CA-93D3-AFA97CD4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164B-80EC-44EC-A3FB-21814CC0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0028F-F9DE-49C7-83C5-CDB4F429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54FF4-CDEC-4D1E-90ED-C5605A10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203E4-8E3D-4DE3-822B-83DE534F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679-7BA8-49EF-8208-6C17B8B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2279E-3C5E-4259-9486-7FBB46BB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4E227-AA1A-4C64-8860-CB174285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CB63B-A890-42C1-88F7-6771F39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C8C62-7286-4009-9F16-CBFB92BF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44E6A-A17D-4388-824D-C75AA46A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14E94-B00A-4596-9005-AFD1F70D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31246-1700-4D03-AA53-A3F12B7F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36F9D-3669-4657-8AF8-6D6B0476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95F9F-B234-4422-B232-1525C2D7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9522C-461D-4DB2-B42D-23C51C9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F689-020B-46C0-B175-C66A210BB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B148-836B-4DF2-B769-8788B9EE48D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7A5E-2B7D-4B39-9B5B-3AEA8DC52707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8923-0F84-4DF9-AC32-01984ADDC0A9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0BC5-9E07-453F-B165-60AC68ABC856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792C-EC9A-48D7-8C12-4AF61DCB2F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251B-D472-444E-849D-71079AEF65B3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3B11-DAC5-48E6-86EE-5403E8721FE4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C51D-3B88-4E7B-AAA9-1A28DD76B14A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1E25-58B7-45C8-8FA9-1905797D5CC3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A1D-F8ED-440C-B778-98D06038A6DE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6C19-B13A-4C40-82D0-1A92015FFECF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0E29-E39C-40F3-8AAE-DEB26808E3E2}" type="slidenum">
              <a:rPr b="0" lang="hr-H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 из животне средин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 и ек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рта 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4296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ОВАЊЕ ГВОЖЂ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150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708688">
                <a:alpha val="5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851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, значај и физиолошка у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533160" y="1371600"/>
            <a:ext cx="7854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за нормалан развој и функционисањ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б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еома малим количинам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ва искор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је апсолу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изам није у стању сам да га ствара, већ се уноси искључиво исхр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налази у организму у количини од 3,5 до 4 грама. Највише га и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ставу хемоглобина (до 70 %), део се налази у миоглобину и ензими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 25 % као резерва, везано за беланчевине феритин и хемосидерин, као и трансферин који служи за транспорт гвожђа међу тки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нс гвожђа и потребан ун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две врсте гвожђа које се уносе исхраном, и то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намирницама животињског порекла и месу и прерађевинама апсорбује се директно и искористљивост износи 20-3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хем-гвожђ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цереалија, поврћа, семенки, легуминоза, воћа-искористивост 1-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7" descr="D:\Fax\Higijena\преузимање.jpg"/>
          <p:cNvPicPr/>
          <p:nvPr/>
        </p:nvPicPr>
        <p:blipFill>
          <a:blip r:embed="rId1"/>
          <a:stretch/>
        </p:blipFill>
        <p:spPr>
          <a:xfrm>
            <a:off x="4267080" y="42670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ubtitle 2"/>
          <p:cNvSpPr/>
          <p:nvPr/>
        </p:nvSpPr>
        <p:spPr>
          <a:xfrm>
            <a:off x="457200" y="0"/>
            <a:ext cx="771516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Times New Roman"/>
              </a:rPr>
              <a:t>Токсичност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жељене последице се јавља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утн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при уносу једне велике дозе,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оничн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при нагомилавању гвожђа у организ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кутно тровање гвожђ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цидентал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тко код одрасли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шће код мале деце која су конзумирала велике количине суплементационих пилула гвожђа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е подсећају на бомбоне што олакшава одлук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це да прог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ју веће количине ових препар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Content Placeholder 3" descr="images (2).jpg"/>
          <p:cNvPicPr/>
          <p:nvPr/>
        </p:nvPicPr>
        <p:blipFill>
          <a:blip r:embed="rId1"/>
          <a:stretch/>
        </p:blipFill>
        <p:spPr>
          <a:xfrm>
            <a:off x="3157560" y="3048120"/>
            <a:ext cx="2828880" cy="1633320"/>
          </a:xfrm>
          <a:prstGeom prst="rect">
            <a:avLst/>
          </a:prstGeom>
          <a:ln w="0">
            <a:noFill/>
          </a:ln>
        </p:spPr>
      </p:pic>
      <p:sp>
        <p:nvSpPr>
          <p:cNvPr id="595" name="Subtitle 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стрикције величине паковања суплемената су у употреби у САД-у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ница од 250 mg елементарног гвожђа се користи од 1978. Примена ових препорука за величину појединачна паковања се сматра да ј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вела до умањења број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алности од тровањ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паратима гвожђ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трова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минута до неколико сати од узимања гвожђ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ирају симптоми од стране гастроинтестиналног тра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ви у стомак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реј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онкасто-сукрвичав садржај, помешан са таблетама или капсулама гвожђ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и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анос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вентилација због ацидозе и кардиоваскуларни колап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ubtitle 2"/>
          <p:cNvSpPr/>
          <p:nvPr/>
        </p:nvSpPr>
        <p:spPr>
          <a:xfrm>
            <a:off x="304920" y="152280"/>
            <a:ext cx="808344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мрт може да наступи веома брзо, унутар 6 сати од почетка тровањ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опходно 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твр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онцентраци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гвожђа у плазм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радити радиографски снимак стомак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г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очити нересорбоване таблете у дигестивном тракт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Лечењ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стрична лаваж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тивни угаљ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на еметика и лаксати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фузије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рекциј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хипотензиј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елатна терапиј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ubtitle 2"/>
          <p:cNvSpPr/>
          <p:nvPr/>
        </p:nvSpPr>
        <p:spPr>
          <a:xfrm>
            <a:off x="1332000" y="2971800"/>
            <a:ext cx="5333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533160" y="228240"/>
            <a:ext cx="785484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хромато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е узроковано таложењем гвожђа у паренхимским органима. Најчеш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кре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крајњи исход болести настаје инсуфицијенција поменутих орг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хемохроматоза је генетски узрокован поремећај метаболизма гвожђ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1536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е су манифест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оза јетре,увећана, чврсте конзистенц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ци портне хипертензије (варикси једњака, асцитес, хепатична енцефалопатиј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јетре се јавља код 15-30% оболел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ес мелитус се јавља у око три четвртине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D:\Fax\Higijena\images (23).jpg"/>
          <p:cNvPicPr/>
          <p:nvPr/>
        </p:nvPicPr>
        <p:blipFill>
          <a:blip r:embed="rId1"/>
          <a:stretch/>
        </p:blipFill>
        <p:spPr>
          <a:xfrm>
            <a:off x="1752480" y="4191120"/>
            <a:ext cx="3810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о сива пребојеност коже, дифузно распоређена, али јаче изражена на откривеним деловима тела (лице, врат, екстеремитети) и у подручјима перманентне ирит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таложења гвожђа у миокарду, развија се кардиомиопатија са поремећајем ритма и срчаном инсуфицијенциј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жење гвожђа у предњем режњу хипофизе смањује секрецију гонадотропина са клиничком манифестацијом атрофије тестиса и губитком либи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D:\Fax\Higijena\преузимање (5).jpg"/>
          <p:cNvPicPr/>
          <p:nvPr/>
        </p:nvPicPr>
        <p:blipFill>
          <a:blip r:embed="rId1"/>
          <a:stretch/>
        </p:blipFill>
        <p:spPr>
          <a:xfrm>
            <a:off x="5357880" y="4714920"/>
            <a:ext cx="26668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град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http://image.slidesharecdn.com/pse-111021102653-phpapp02/95/pse-29-728.jpg?cb=1319192910"/>
          <p:cNvPicPr/>
          <p:nvPr/>
        </p:nvPicPr>
        <p:blipFill>
          <a:blip r:embed="rId1"/>
          <a:stretch/>
        </p:blipFill>
        <p:spPr>
          <a:xfrm>
            <a:off x="642960" y="3429000"/>
            <a:ext cx="3549600" cy="2662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2" descr=""/>
          <p:cNvPicPr/>
          <p:nvPr/>
        </p:nvPicPr>
        <p:blipFill>
          <a:blip r:embed="rId2"/>
          <a:srcRect l="1286" t="7461" r="5103" b="2839"/>
          <a:stretch/>
        </p:blipFill>
        <p:spPr>
          <a:xfrm>
            <a:off x="4572000" y="3429000"/>
            <a:ext cx="4229280" cy="2071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Content Placeholder 3" descr="преузимање (7).jpg"/>
          <p:cNvPicPr/>
          <p:nvPr/>
        </p:nvPicPr>
        <p:blipFill>
          <a:blip r:embed="rId1"/>
          <a:stretch/>
        </p:blipFill>
        <p:spPr>
          <a:xfrm>
            <a:off x="5192640" y="428760"/>
            <a:ext cx="3951360" cy="2143080"/>
          </a:xfrm>
          <a:prstGeom prst="rect">
            <a:avLst/>
          </a:prstGeom>
          <a:ln w="0">
            <a:noFill/>
          </a:ln>
        </p:spPr>
      </p:pic>
      <p:sp>
        <p:nvSpPr>
          <p:cNvPr id="605" name="Subtitle 2"/>
          <p:cNvSpPr/>
          <p:nvPr/>
        </p:nvSpPr>
        <p:spPr>
          <a:xfrm>
            <a:off x="457200" y="457200"/>
            <a:ext cx="7854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нез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г прегле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ских налаза (повишено гвожђе у серуму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псија јетре омогућава хистолошку дијагнозу 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охемијско доказивање гвожђа у јет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се може доказати и у кожи, слузокожи желуца, седименту мокраћ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изација и уклањање вишка гвожђа постиже се понављаним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епункцијама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и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агенс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везују за вишак гвожђа у серуму и затим га избацују путем урина и столиц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оловом-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ам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saturn-pictures-1"/>
          <p:cNvPicPr/>
          <p:nvPr/>
        </p:nvPicPr>
        <p:blipFill>
          <a:blip r:embed="rId1"/>
          <a:stretch/>
        </p:blipFill>
        <p:spPr>
          <a:xfrm>
            <a:off x="1981080" y="2325600"/>
            <a:ext cx="5562720" cy="384660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5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и су оловна пара, дим и пра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о је метал сивкасто плаве боје, меке кон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 експози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опионице руда олова, оловни бензин, ливнице, пестициди, антикорозивна заштита, акумулатори са оловом, индустрија нафте, штампарска индустр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јважнији пут уноса у професионалној токсикологиј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ес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кут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о о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пут уноса неорганског олова је преко респираторног тра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 неорганског олова се деопонује у костима а остатак у унутрашњим орга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о о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пут уноса органског олова је преко респираторног тракта, ихалацијом п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аетил-о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а концентрација ових органских једињења је у можданом тк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лакшег облика тровањ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љи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о бледил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ачка грозни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са ретикулоцитоз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и руб на десн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 облици манифестног тровањ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астроинтестинални обл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уромускуларн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нцефалопатичк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шовит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 о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 обли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јчешћи обли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е кол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типација или дијаре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врст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есенциј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значај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алт (C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 (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жђе (F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езијум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ган (М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н (S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 (Z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 (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бден (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пиј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ма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кација повраћања и гастрична лаважа - код ингестије отр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цијум глуконатом - за купирање оловних кол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битурати - код конвулзија и Манитол - у случају појаве церебралног еде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а терапија - код акутног тровања комбинована хелатна кура БАЛ-ом 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хроничног тровања даје се само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рајању од 5 д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живом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ам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8" descr="http://www.umjeravanjeiispitivanjelaboring.com/_Media/slomljeni_toplomjer_med.jpeg"/>
          <p:cNvPicPr/>
          <p:nvPr/>
        </p:nvPicPr>
        <p:blipFill>
          <a:blip r:embed="rId1"/>
          <a:stretch/>
        </p:blipFill>
        <p:spPr>
          <a:xfrm>
            <a:off x="2362320" y="2819520"/>
            <a:ext cx="4095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 је сребрнасто бели метал у течном стању који већ на собној температури испа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 изво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на к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л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гени изво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ници живе, топионице живиних руда, ивори сагоревања фосилних гор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ин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ој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утан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ациј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лацентарн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а ж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апсорпције жива се путем крви дистибуира по целом организ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а једињењ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више депонују у бубре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једињењ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више депонују у ЦНС-у и ткивима богатим маст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неорганским спојевима ж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неорганск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ма ж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а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при гут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укус у ус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бојене ивице гингива-живин 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 неорганским спојевима жив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ксал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фарингеал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ални укус у устима, хиперсаливација, болови у устима, спонтано испадање зуб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астенич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енично-вегетативни синдром (психофизичка астенија, умор, несаниц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 тре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 ерет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органским спојевима ж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астеничне смет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0" y="1890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ребрнасто-бели мета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потреб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талург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Електрична индустр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дустрија боја и хемијска индустриј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Фунгици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1071720" y="35712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НГ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228600" y="533520"/>
            <a:ext cx="86868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АБОЛИ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УТЕВИ УНОШ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3"/>
          <p:cNvSpPr/>
          <p:nvPr/>
        </p:nvSpPr>
        <p:spPr>
          <a:xfrm flipH="1">
            <a:off x="2819160" y="182880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4572000" y="18288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152280" y="2590920"/>
            <a:ext cx="8991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ПЛУЋ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ГИТ (~ 5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проф. експозиција)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општа популациј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СТРИБУЦ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РВ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ЈЕТРА, БУБРЕЗИ, ЕНДОКРИНЕ ЖЛЕЗДЕ, ПАНКРЕАС, МОЗА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ЛИМИН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ФЕЦЕС (95 %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УР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при </a:t>
            </a:r>
            <a:r>
              <a:rPr b="1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експозициј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ксичн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b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g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мију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илију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бал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л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i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фија не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е и 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после краће или дуже експозиције парама или прашини мангана или његових једињ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латентног периода од 1 месеца до 10 и више година јављају се клинички знаци који пролази кроз 3 стадију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ром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304920" y="4572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Симпто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трећег стадијум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сећају на клиничку слику манганизм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ежан гов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мим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табилност при ходу и стаја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нциони трем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1" lang="sl-SI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даље експози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одневна мобилизациона терапија хелатим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2EDTA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Оправдано је ако је тровање дијагностиковано у иницијалној фази, када прекид експозиције доводи до спонтаног повлачења неуролошких испада, при чему се хелатима овај процес само убз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арсе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50920" y="1341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о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пестиц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а бојних от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 арс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 систе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једно најчешћ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и систем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е се путем крви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јвећим делом везан за хемоглобин Er, мањим делом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 за протеине плаз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 се у плућима, бубрезима и је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фесионал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угроженији у насељеним местима су у близини термоелектрана и топио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 се ослобађа и сагоревањем др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уношења арсена контаминираном хра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к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угрожени радници у топионицама руда бакра и оло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дустрији пестиц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опасниј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токсичан арсентриокс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токсичних ефеката арс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арсеном може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и хронично тр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арсе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о инхал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о ингет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изазвано инхалациј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 у оч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 у носу и ждр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зање у гру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ша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 плућа – рет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изазвано ингестиј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2876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ђење и Повраћ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у трбу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и - мириса на бели л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а и влажна ко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токсичност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 са есенцијалним елемен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комплекса метал-прот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жив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форма ме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и стат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 и летар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ипле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р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а и 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рт - за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ације хроничног тровања обухватају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на кожи и нокт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ска полинеуропа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централног нервног система, јетре и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лошки поремећаји са панцитопен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ћање ризика за настанак карцинома коже, је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тровања арсе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вести терапију едема плућ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исати отров из желуца провоцираним повраћањем и испирањем желу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таминација коже прањ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овати поремећај електроли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кција дисбаланса воде и електроли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екад је потребна хемодијализа или перитонеална дијали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КАДМИЈ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мијум је метал сребрнасто беле боје, лако испарљ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ни п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ални п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овањ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, мишићи, бубре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ринарни систем, Г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ри експозициј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пиониц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заваривањ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галванизацији мет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никл-кадмијумских батер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и употреба кадмијумских лег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боја, стакла, керамике и пластичних ма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изводња вештачког ђубрива и пестици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ронска и нуклеарна индустр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ирана хр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но тровање инхалацијом  кадм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зница и 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ја и каша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ови у груд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њуктивитис и рин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експозиције већим концентрација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 пнеумон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пнеумон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а пл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тно тровање ингестијом  кадмиј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 и га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 и пр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 кадмиј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функције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на ко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од стране респираторног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“Итаи-ита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6840" y="1294920"/>
            <a:ext cx="6095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трајно излагање кадмијум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оди до болести која је у Јапану позната као “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-итаи”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вата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ано-зглобни систем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ве погођене овом болешћу имале су 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количине кадмијума уз недостатак витамина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ве то као последицу контаминациј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hr-H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ринча узгајаног на тлу које је наводњавано водом загађеном из рудника цин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3" descr="Itai_itai.png"/>
          <p:cNvPicPr/>
          <p:nvPr/>
        </p:nvPicPr>
        <p:blipFill>
          <a:blip r:embed="rId1"/>
          <a:stretch/>
        </p:blipFill>
        <p:spPr>
          <a:xfrm>
            <a:off x="6477120" y="1214280"/>
            <a:ext cx="2666880" cy="29005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Tomokos_hand.gif"/>
          <p:cNvPicPr/>
          <p:nvPr/>
        </p:nvPicPr>
        <p:blipFill>
          <a:blip r:embed="rId2"/>
          <a:stretch/>
        </p:blipFill>
        <p:spPr>
          <a:xfrm>
            <a:off x="6477120" y="4087800"/>
            <a:ext cx="2666880" cy="2770200"/>
          </a:xfrm>
          <a:prstGeom prst="rect">
            <a:avLst/>
          </a:prstGeom>
          <a:ln w="0">
            <a:noFill/>
          </a:ln>
        </p:spPr>
      </p:pic>
    </p:spTree>
  </p:cSld>
  <p:transition advTm="36000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позициони тесто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ћана концентрација кадмиј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ви, коси и у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ед урина (протеинурија, гликозурија, аминоацидурија, повећан ниво фосфата и калцију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невни тест мобилизације хелатима (за процену величине депоа кадмију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Г карлице и плућ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ам доспевају на неколико нач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к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слузокоже 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нтацијом стране мате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57200" y="214200"/>
            <a:ext cx="822960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не мере лечења тровања кадмијумом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ивање повраћања и гастрична лаважа (уколико је дошло до ингест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торинг и лечење респираторне инсуфицијенције и лечење едема плућа (инхалационо тров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ње 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азриво јер је доказано да примена ових агенаса повећава нефротоксично дејство кадмију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томатска терапија оштећења бубрега и је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екција дисбаланса воде и е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5000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108000" y="228240"/>
            <a:ext cx="8578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оелемент биљака и животи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 експози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ио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на и кожна индустр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фотограф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бо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цемен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тех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керам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 уно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тивно  и алергогено дејство на кожу и слузок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рматитис са улцерацијама или без њ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ергијске мнифестације екцематозног и неекцематозн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 ефекти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ном ткиву и бронх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васкуларном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: повише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хром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рви и ур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устријск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, ингестијом и преко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сањем алкохола под дејством алкохолне дехидрогеназе настаје токсична мравља киселина која доводи до ацид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пролази кроз три стадију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адијум пиј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дражај горњих респираторних путева  и о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атентни стадијум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иод побољш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нифестни стад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ни стадију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лакшег облика тровањ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тогла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ађе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ремећај равноте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метње у виду-скотоми, сужење видног поља, слеп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ни стадиј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тежег облика тр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лавоб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огла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и болови у трбу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тална конфу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е и 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ман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аж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 –окупира алкохолну дехидрогеназу и спречава метаболисање метанола до мрављ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дијализа-отклања метанол и мрављу кисел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 ацидоза се лечи бикарбона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пестицид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tis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га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re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ли смеше супстанци хемијског или  природног  порекла, намењене за превенцију, уништавање, сузбијање или смањење количине штеточин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б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г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ент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ар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о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лиј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ик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стерилиз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еле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усц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ам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тиокарбам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етр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итрофено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ксисирћ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ирид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ази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марин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талими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а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ЕВИ ИЗЛУЧИВ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хнутим ваздух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бубр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жу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слузокоже ГИТ-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јних, лојних  и млечних жл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ађивањем у длаке и нок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а и билијарна екскреција представљају најважније путеве излучивања. Излучивање преко млечних жлезда је од токсиколошког значаја за мајке дојиљ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хлор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ј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е структуре, добро растворљиве у м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знатији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д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уносе преко коже, инхалацијом, ингест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, поремећај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теж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оглавица,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стезије, мишићни трем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слаб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цефал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рур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експозиције, спречавање апсорпције и убрзање елимин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рање конвулзија давањем диазе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ање респираторне 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ска терапија (С и В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ј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емијском саставу ради се о веома токсичним естрима фосфорне кисел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кумулирају се у организму и брзо се разграђују у спољашњој средини (не загађују животну средин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сте се за уништавање штетних инсеката, гриња, гљивица, корова и немат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у употре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т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то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а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9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9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9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9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9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9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9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 тровање 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каринс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рим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ре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констрик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ард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с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цикула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чно-клонички грчев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флекс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и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кул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, промена понашања, вртоглавица, конфузија, халуцинације, губитак свести, парализа респираторних миши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о тровање 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 ЦНС-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дражљивост и анксиоз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мена располож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љење пам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љење концентр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нзомоторна неуропатиј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 функције квс-а и је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 гастр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ргиски дермат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труктивни бронх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609624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285480" y="999720"/>
            <a:ext cx="862956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даље експози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таминација - Прање коже водом и сапуном, испирање очију, уста и желу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е дисајних путева (аспирација секр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пин-сулфат - као антагонист ацетилхолину, блокира мускаринске ефекте, али не и никотинске и центр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ране холинестеразе (каузална терап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а терапија-кардиотоници, бронходилататори, антибиотици, кисеоник, дијазе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амат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28760" y="7855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амати представљају Естре карбаминских киселина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сте се као инсектициди, хербициди и фунгиц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кумулирају се у организму и брзо се разграђују у спољашњој средини (не загађују животну среди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ници ове групе пестицида су: Бутилат, Циклоат, Молин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бар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уносе преко коже и инхал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 мускаринске, никотинске и централне еф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 даље експозиције, деконтаминација, ослобађање дисајних путева, симптоматск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пинсулфат - као антагонист ацетилхолину, блокира мускаринске еф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лоз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т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тенон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етр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солубилни су, продиру у Ц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у ЦНС и доводе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 тров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нвулзивн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седати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 тешким металима могу б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УТ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лучајна, намерна) → услед нагле изложенос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м количин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ИЧ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усле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ног периода излагања ниским концентрациј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175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 прев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99680" y="1000080"/>
            <a:ext cx="8643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е мере заштите особа које су изложене пестициди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познавање радника са опасностима од пестицида и снабдевање са упутствима за безбедно рукова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могућити радницима прање руку при прекиду посла и туширање на крају радног вре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езбедити пружање прве помоћи у случају тр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значити сваки препарат уколико је отрован,начин његовог растварања са препоруком занамену, заштитне мере и савет код тр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ви радници који раде са токсичним пестициди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бити заштићени радним оделима, капом штитником, непропустљивим заштитницима за рамена, рукавицама, респираторима и наочар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д прскања пестицида из авиона, пилот не сме учествовати у њиховом утовару, не сме летети кроз маглу и мора да носи бели конбинезон. За овакве послове морају се употребљавати специјални авио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хло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њ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иш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ње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опасн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DD ("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) -2,3,7,8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лородибенз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2,3,7,8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хлородибензофур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B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разградив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 на људски орган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, мутаген, тератоген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токсичан, хепатотоксич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рини дисруп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дел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ин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о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ом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ч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изложенос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им доз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хлорак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жно обољење које карактеришу  кожне лезије налик акна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оси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лорације и претеране длака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ек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ненча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ал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ат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ача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о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ско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опоге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њ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као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спродук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ој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ој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и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љивање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647720" cy="14335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7143840" y="785880"/>
            <a:ext cx="154620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јетн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61-1971. године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о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ниш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O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лија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л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чк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јска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вао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fi-F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D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ђено је 500000 деце с тешким деформитети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учесталост спонтаних побача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 учесталост разних типова карцин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5000760" y="4357800"/>
            <a:ext cx="3190680" cy="22874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928800" y="4357800"/>
            <a:ext cx="3106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 раствар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ље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он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е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алифатични 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- ароматични (циклични) 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- халогени деривати угљоводо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- алкохоли, етри, естри, алдехиди и к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- алициклични 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 - угљендисулф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бари и молери, радници на чишћењу и одмашћивању, у металној, електронској и графичкој индустрији, на преради дрвета и изради намештаја, у индустрији гуме и пластике,  хемијској индустрији,  на  изради  текстила,  одеће,  коже  и обуће, прехрамбеној индустрији, хемијским лабораториј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значајн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ш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е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рљив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мин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љ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с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е 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љ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трансформац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мулира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ки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љ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ећ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ј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ч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Токсикокинетика</a:t>
            </a:r>
            <a:r>
              <a:rPr b="1" lang="sr-Latn-CS" sz="4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7b9899"/>
                </a:solidFill>
                <a:latin typeface="Times New Roman"/>
                <a:ea typeface="Times New Roman"/>
              </a:rPr>
              <a:t>мет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3137040" y="1197000"/>
            <a:ext cx="11469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Хр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324000" y="2133720"/>
            <a:ext cx="187164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Г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187280" y="2924280"/>
            <a:ext cx="1440000" cy="45972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је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55640" y="3716280"/>
            <a:ext cx="1440000" cy="45972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жу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3132000" y="2708280"/>
            <a:ext cx="144000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ahoma"/>
              </a:rPr>
              <a:t>крво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4932360" y="2924280"/>
            <a:ext cx="2232000" cy="82548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остали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орг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203640" y="4869000"/>
            <a:ext cx="143964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24000" y="4869000"/>
            <a:ext cx="143964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фец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3203640" y="3860640"/>
            <a:ext cx="1439640" cy="45972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бубре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5076720" y="4869000"/>
            <a:ext cx="100800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зн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6227640" y="4869000"/>
            <a:ext cx="9874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к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5076720" y="3860640"/>
            <a:ext cx="1440000" cy="398880"/>
          </a:xfrm>
          <a:prstGeom prst="rect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3300"/>
                </a:solidFill>
                <a:latin typeface="Tahoma"/>
              </a:rPr>
              <a:t>кож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5"/>
          <p:cNvSpPr/>
          <p:nvPr/>
        </p:nvSpPr>
        <p:spPr>
          <a:xfrm flipH="1">
            <a:off x="2195280" y="1628640"/>
            <a:ext cx="93636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6"/>
          <p:cNvSpPr/>
          <p:nvPr/>
        </p:nvSpPr>
        <p:spPr>
          <a:xfrm>
            <a:off x="576360" y="2637000"/>
            <a:ext cx="34920" cy="22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7"/>
          <p:cNvSpPr/>
          <p:nvPr/>
        </p:nvSpPr>
        <p:spPr>
          <a:xfrm>
            <a:off x="1547640" y="3429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8"/>
          <p:cNvSpPr/>
          <p:nvPr/>
        </p:nvSpPr>
        <p:spPr>
          <a:xfrm flipV="1">
            <a:off x="900000" y="256500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9"/>
          <p:cNvSpPr/>
          <p:nvPr/>
        </p:nvSpPr>
        <p:spPr>
          <a:xfrm>
            <a:off x="1547640" y="2637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20"/>
          <p:cNvSpPr/>
          <p:nvPr/>
        </p:nvSpPr>
        <p:spPr>
          <a:xfrm>
            <a:off x="2700360" y="306864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1"/>
          <p:cNvSpPr/>
          <p:nvPr/>
        </p:nvSpPr>
        <p:spPr>
          <a:xfrm flipH="1">
            <a:off x="2556000" y="321300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2"/>
          <p:cNvSpPr/>
          <p:nvPr/>
        </p:nvSpPr>
        <p:spPr>
          <a:xfrm>
            <a:off x="4572000" y="306864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3"/>
          <p:cNvSpPr/>
          <p:nvPr/>
        </p:nvSpPr>
        <p:spPr>
          <a:xfrm flipH="1">
            <a:off x="4500360" y="321300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4"/>
          <p:cNvSpPr/>
          <p:nvPr/>
        </p:nvSpPr>
        <p:spPr>
          <a:xfrm>
            <a:off x="3851280" y="443700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5"/>
          <p:cNvSpPr/>
          <p:nvPr/>
        </p:nvSpPr>
        <p:spPr>
          <a:xfrm>
            <a:off x="3924360" y="350028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6"/>
          <p:cNvSpPr/>
          <p:nvPr/>
        </p:nvSpPr>
        <p:spPr>
          <a:xfrm>
            <a:off x="4572000" y="3357720"/>
            <a:ext cx="93672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27"/>
          <p:cNvSpPr/>
          <p:nvPr/>
        </p:nvSpPr>
        <p:spPr>
          <a:xfrm flipH="1">
            <a:off x="5435640" y="4292640"/>
            <a:ext cx="216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28"/>
          <p:cNvSpPr/>
          <p:nvPr/>
        </p:nvSpPr>
        <p:spPr>
          <a:xfrm>
            <a:off x="6084720" y="4292640"/>
            <a:ext cx="43200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9"/>
          <p:cNvSpPr/>
          <p:nvPr/>
        </p:nvSpPr>
        <p:spPr>
          <a:xfrm flipV="1">
            <a:off x="3780000" y="3428640"/>
            <a:ext cx="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0"/>
          <p:cNvSpPr/>
          <p:nvPr/>
        </p:nvSpPr>
        <p:spPr>
          <a:xfrm flipH="1" flipV="1">
            <a:off x="4427280" y="3428640"/>
            <a:ext cx="936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179280" y="6165720"/>
            <a:ext cx="8229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Судбин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метал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оргнанизму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после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уношења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храном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7429680" y="1217520"/>
            <a:ext cx="17143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Извор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токсичних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мет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7429680" y="2341440"/>
            <a:ext cx="17143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Апсорп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4"/>
          <p:cNvSpPr/>
          <p:nvPr/>
        </p:nvSpPr>
        <p:spPr>
          <a:xfrm>
            <a:off x="7286760" y="3214800"/>
            <a:ext cx="18572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Транспорт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и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дистрибу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5"/>
          <p:cNvSpPr/>
          <p:nvPr/>
        </p:nvSpPr>
        <p:spPr>
          <a:xfrm>
            <a:off x="7286760" y="4869000"/>
            <a:ext cx="18572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ahoma"/>
              </a:rPr>
              <a:t>Елимина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оксичност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тичк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пат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циј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з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м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ргијск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атотоксичн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токсичност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тм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аде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рматотоксичнос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0" y="999720"/>
            <a:ext cx="90360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ичк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р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штите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метиз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матиз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ц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ск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д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од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гијенске мере заштите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лњањ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ањ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е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ц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љач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ни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пе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з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ира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ацион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њ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дљивих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сол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ј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45720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чу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билизац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ред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енадн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с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в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ће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оз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ће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ог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шњег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ора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ћивање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у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к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знат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о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х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кс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м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ма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и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лом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е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6:21:48Z</dcterms:created>
  <dc:creator>Vlatka Brumen</dc:creator>
  <dc:description/>
  <dc:language>en-US</dc:language>
  <cp:lastModifiedBy>Maja</cp:lastModifiedBy>
  <dcterms:modified xsi:type="dcterms:W3CDTF">2023-09-14T09:34:13Z</dcterms:modified>
  <cp:revision>270</cp:revision>
  <dc:subject/>
  <dc:title>ZDRAVSTVENI UČINCI METALA</dc:title>
</cp:coreProperties>
</file>